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E18-FA93-4231-B02E-1DED242F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F54-21B7-4558-90F3-F19248E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66B-C84F-43D0-AD77-B12F8A23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7A-0E71-4CE1-A4A8-B5847057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46B-DD24-4C07-AC9C-174F18E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923-7907-4151-88C8-5B22A77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70E-64CD-439D-BA76-88B3B4FC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5E5-21E2-4EBE-A92E-F062BF8C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8E0-1B13-4ED0-BD22-2472D54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83B-61BA-4C86-BE1D-410E87F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F51-A1CF-4699-BEE1-4F13DE8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14-570B-45AC-B127-B8F76B9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F3F-8CF5-4500-8178-1A5296D77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nuary 3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943-03FD-4CCD-A916-C93A8B38C8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cember 10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Meeting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attention to recent extract delays and communication issues being forwarded to CC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WG suggested the current “48 hour” notice be revisited and may not be acceptable for some key ext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R Mandatory Installation – Presented draft PRR to conform protocols with the AM Rule and PUC directive – Straw Vote at COPS in favor of support of P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Verifiable Cost Manual – participating in TPTF VC Task Force – SDAWG will address VC Tool and Nodal Sett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21C-120E-4966-83F3-27A8FEFD2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Resettlements – submitted proposal to reduce impact on ERCOT and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Nodal Settlement Invoice Prototypes for DAM_RUC_RTM_ &amp; CARD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R Auction Revenue Disburs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various PRR’s &amp; Nodal NPRR’s for their impact upon the Settlement Process and responded to PRR720 creating an ad hoc participant group to work with ERCOT in developing a new TRE Fee pro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30A-4476-40AD-8E73-DECE54A8E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 “Nodal Day Ahead Invoice Task Force” to review DAM Invoices being daily versus weekly – TF determined it could not overcome CWG “perception of Market Risk” and decided to take a wait and see approach as DAM market opens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arned that DAM invoices are due &amp; payable 6 days after operating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&amp; RMS jointly formed a Demand Response Task Force to build requirements for DR Programs  &amp; Report to COPS &amp; RMS by Feb. 20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F has developed Scope in response to HB 3693 Sect. 20 and Sect. 39.107 Utilities Code as am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2DC-C519-4F51-BAEB-91E6F7E215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922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NPRR to alter the nodal disput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business requirements for Nodal C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ponsored 2-day mini-market workshop for nodal extracts (hosted at LC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Worked on VC manual and associated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C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COPMG to include Nod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Section 11, “Extracts and Repor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21B-3199-422E-96CE-696AEC3F0F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Version 2 ERCOT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LRS Sample selection round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Oil &amp; Gas Profile –BUSOGF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d 2007 Annual Vali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d 2004, 2005, 2006, and 2007 preview UF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area on PWG web page for key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d LPGRR &amp; NPRR Language for Demand Respons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9 Load Profiling Market Guide Rev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8E5-E65B-433D-B0E7-D3BB73ED3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ed late in the year to address the concerns of current Extract and Reporting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 Service Level Agreement is in progress to provide a better sense of expectations from the Extract/Report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ERCOT’s help, provided MPs an understanding of the process and issues around Extracts and Re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a forum for MPs to discuss concerns related to Extracts and Repo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F92-3F4F-495C-BE4C-E3F2DF2D7B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745-F7F9-4A41-AD34-E86C0E9F7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2-26T18:49:01Z</dcterms:modified>
  <cp:revision>245</cp:revision>
  <dc:subject/>
  <dc:title>Point-to-Point</dc:title>
</cp:coreProperties>
</file>